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3631F-43C7-428C-A4C3-5FB92AEE0D3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706D5-E4F9-46C6-995D-929298774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143080" y="685800"/>
            <a:ext cx="257184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21B1F-788B-4372-943C-C9B1D97E3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041E9-D552-451D-B853-13256D2A7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653B2-E666-4AEB-9A58-560AD577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B2DF9-1761-4EDF-9310-DC439534E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036FD-3B71-45C9-AD0C-8F0FFA13A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0596-EF29-4C99-902E-B3EA0D743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B872-87F8-43CC-910A-D464F7D6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9D0F-3B67-461D-8CC5-16CB8866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F1377-5053-424B-92D7-B3F79B18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DD892-9DA8-4C2A-B20C-A6A19393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26DC-20E7-4D91-992B-5920389A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0E85-DD42-4C7F-8A0A-B538C3C7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EE12-BEE9-48AB-A853-C0A9F9D6B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8E913-5E08-4E48-ADA5-21050484CFE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1794E-6014-415E-8C92-6342631DCC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TextBox 4"/>
          <p:cNvSpPr/>
          <p:nvPr/>
        </p:nvSpPr>
        <p:spPr>
          <a:xfrm>
            <a:off x="7200" y="2211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igure 2</a:t>
            </a:r>
            <a:endParaRPr b="0" lang="en-US" sz="1800" spc="-1" strike="noStrike">
              <a:solidFill>
                <a:srgbClr val="000000"/>
              </a:solidFill>
              <a:latin typeface="Arial"/>
            </a:endParaRPr>
          </a:p>
        </p:txBody>
      </p:sp>
      <p:sp>
        <p:nvSpPr>
          <p:cNvPr id="51"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5"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6"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7"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9"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9:20:00Z</dcterms:created>
  <dc:creator>David Barkan</dc:creator>
  <dc:description/>
  <dc:language>en-US</dc:language>
  <cp:lastModifiedBy>David Barkan</cp:lastModifiedBy>
  <cp:lastPrinted>2009-09-30T02:40:58Z</cp:lastPrinted>
  <dcterms:modified xsi:type="dcterms:W3CDTF">2010-01-29T01:51:32Z</dcterms:modified>
  <cp:revision>49</cp:revision>
  <dc:subject/>
  <dc:title>Slide 1</dc:title>
</cp:coreProperties>
</file>